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67A6-C12B-424B-86CD-3AC62D95A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8F8A-F465-4E28-AA7F-280ACAFFA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0AF9-7985-4365-AA87-4FF79A2F7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A500-8DE4-456D-946B-7F233D3E2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B9A5-D10A-4B51-AEFE-7450061F1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10B8-5147-4C89-B6D4-67182FE57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B1DD-59DE-4154-8714-B7B392368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1FB8-99FA-4B85-A0AB-0DD7AA415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5F1B-5B08-4FBB-94C4-30F1C6B2F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D15A-79D7-4594-B879-2FB03AA35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1070-8942-4ECB-B69D-B2DF56370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C375-B085-467A-8682-BF7BC525F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BFD2-ED08-4599-BC04-9A2B2DAE2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02CB-DD96-4860-9412-3FF2EFE95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F926-2325-4AC9-A136-BB7F8E20E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CC80-2BEF-4460-827A-A2774A573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C84F-D59F-4AE7-B65D-F66D99A4D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9D54-99C0-4F43-9D74-6FEDC439E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8838-2B85-4695-89AE-534CCE1A5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E9A0-7D84-427F-B629-67431515C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4E4A-C6FE-4702-80D3-30E102CD0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5F46-6ACA-4078-BE78-3E95EC792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33EB-F466-4B2D-A51C-5D01144B0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1EE-07BF-4A31-B209-E8138890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2CF-A45F-4E3B-AE23-0820FF35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9BE-603E-4E25-92A6-3BD32E27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CA3-6840-4AD7-B475-AAC84028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DF2-2C25-4360-9682-BA9C83D1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827-D671-41A9-AF15-6BFD8114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DC0-5765-4DC7-BAA7-83D21272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C7A-0377-43C9-BEA2-FB9CDA23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23B-2356-44DD-91C4-1DC302E9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591-6A28-4BDD-8004-947D107B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CF8-A243-4335-BE0E-5BCDF78A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CEF-285A-42F5-BEC0-E7416706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7145-E349-4A05-985C-F1299FBA0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yden E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countries are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’s small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ych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609480" y="1219320"/>
            <a:ext cx="80773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 with the longest n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a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ack, yellow, green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, blue and 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s of South African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st desert in Af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hara 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914400" y="1143000"/>
            <a:ext cx="723888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ernmost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ni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st land mammal on Ear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ntry inside South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ot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ighest mountain in Af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 Kilimanja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st populated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304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152280"/>
            <a:ext cx="17524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876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7010280" y="152280"/>
            <a:ext cx="167652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Grab 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argest land an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ppopot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toria, Bloemfonte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Cape Town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Capitals of 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n country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enguin colo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14400" y="1219320"/>
            <a:ext cx="78487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outhernmost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ack with white stri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 with black stri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ckname of South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nbow 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rgest river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’s larg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t that can run up to 80m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et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uth Africa’s largest ex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 and Diam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Owner</cp:lastModifiedBy>
  <cp:lastPrinted>2001-01-31T16:21:13Z</cp:lastPrinted>
  <dcterms:modified xsi:type="dcterms:W3CDTF">2010-10-22T02:33:53Z</dcterms:modified>
  <cp:revision>6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